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7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339-FD8B-4296-994E-1895247F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53E-4F77-45EF-A7D4-F8D3A4DC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7A6-C49D-43CB-A52E-BC71FF45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E0C-6F91-4590-827A-8ACC57C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66E-EE53-457F-811E-2236E0A2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BC8-5307-4583-807C-886DEBB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402-8412-4D17-A73F-0829808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233-96DF-4A67-936B-4555593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7E5-BBF7-444F-8C69-276B4728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EB1-1931-46DF-B212-F6733D1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B8C-0A41-4D56-95BF-53B6A41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0E5-3F75-44A2-9717-DDD8B13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196-250C-45AF-84B3-898BBF6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553-91ED-48D2-83CA-70AEBC1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90DE-22EF-49A0-B701-13BAB8B35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 </cp:lastModifiedBy>
  <dcterms:modified xsi:type="dcterms:W3CDTF">2009-01-28T19:26:26Z</dcterms:modified>
  <cp:revision>118</cp:revision>
  <dc:subject/>
  <dc:title>Museum of World Stuff</dc:title>
</cp:coreProperties>
</file>